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6CF-700A-4FCA-988E-87CB8248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044-2364-4DF9-8566-A8B0D753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87A-FC6C-4B97-B99B-1E890C2E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F7B-7FCD-46D8-B344-77BD42F9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5F3F-1B6F-4F2F-8CAA-359E1CEB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F0AE-D6D7-4278-8C04-489F238E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F67-BCEA-443F-98CB-3B21FD05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08D4-8ED9-43B5-BAF0-1289EBA0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AE65-737B-41C6-B4F6-2F6707E5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031C-04F9-4643-B986-6A939B5D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00FB-9A69-427F-B285-F711CCA0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995-046F-4AD9-A9DB-45494A87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0DA2-12AF-48F2-905D-CA3A5513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6E47-5F80-4443-9AFB-451E92AD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939F-61FD-4EBD-80BA-532E30A8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0C79-3C58-4D50-B9FD-6824FCD0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1A60-C2E7-49F6-AAB0-77AF4E62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70C-527A-45A0-9F71-1444A45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DD0-9F4D-4A47-A326-F632EFE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D00-BDA4-4E07-B68E-6967CEC2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675-3597-4D3C-9C97-AE495F6D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653A-D1B5-4FAC-B552-70BB2CB3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475-E55D-422F-A42C-87D9D1F0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A8C-2156-44B4-91FA-0C856AD8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201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202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203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04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205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206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207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208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209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210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211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212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213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214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215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216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217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18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9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0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21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22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23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24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25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26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27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228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229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230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231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28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26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26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26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26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26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27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27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27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27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27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27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27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27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27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27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8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28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28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8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28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28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28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28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28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0CC-AAF6-4D57-9A9C-8EFDB14BF997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99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100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101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110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111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120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115"/>
                    <p:cNvSpPr/>
                    <p:nvPr/>
                  </p:nvSpPr>
                  <p:spPr>
                    <a:xfrm>
                      <a:off x="2037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116"/>
                    <p:cNvSpPr/>
                    <p:nvPr/>
                  </p:nvSpPr>
                  <p:spPr>
                    <a:xfrm>
                      <a:off x="8380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117"/>
                    <p:cNvSpPr/>
                    <p:nvPr/>
                  </p:nvSpPr>
                  <p:spPr>
                    <a:xfrm>
                      <a:off x="97092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118"/>
                    <p:cNvSpPr/>
                    <p:nvPr/>
                  </p:nvSpPr>
                  <p:spPr>
                    <a:xfrm>
                      <a:off x="2237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129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124"/>
                    <p:cNvSpPr/>
                    <p:nvPr/>
                  </p:nvSpPr>
                  <p:spPr>
                    <a:xfrm>
                      <a:off x="2037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125"/>
                    <p:cNvSpPr/>
                    <p:nvPr/>
                  </p:nvSpPr>
                  <p:spPr>
                    <a:xfrm>
                      <a:off x="8380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126"/>
                    <p:cNvSpPr/>
                    <p:nvPr/>
                  </p:nvSpPr>
                  <p:spPr>
                    <a:xfrm>
                      <a:off x="97092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127"/>
                    <p:cNvSpPr/>
                    <p:nvPr/>
                  </p:nvSpPr>
                  <p:spPr>
                    <a:xfrm>
                      <a:off x="2237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138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133"/>
                    <p:cNvSpPr/>
                    <p:nvPr/>
                  </p:nvSpPr>
                  <p:spPr>
                    <a:xfrm>
                      <a:off x="2037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134"/>
                    <p:cNvSpPr/>
                    <p:nvPr/>
                  </p:nvSpPr>
                  <p:spPr>
                    <a:xfrm>
                      <a:off x="8380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135"/>
                    <p:cNvSpPr/>
                    <p:nvPr/>
                  </p:nvSpPr>
                  <p:spPr>
                    <a:xfrm>
                      <a:off x="97092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136"/>
                    <p:cNvSpPr/>
                    <p:nvPr/>
                  </p:nvSpPr>
                  <p:spPr>
                    <a:xfrm>
                      <a:off x="2237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147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148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157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52"/>
                    <p:cNvSpPr/>
                    <p:nvPr/>
                  </p:nvSpPr>
                  <p:spPr>
                    <a:xfrm>
                      <a:off x="3519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153"/>
                    <p:cNvSpPr/>
                    <p:nvPr/>
                  </p:nvSpPr>
                  <p:spPr>
                    <a:xfrm>
                      <a:off x="2320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154"/>
                    <p:cNvSpPr/>
                    <p:nvPr/>
                  </p:nvSpPr>
                  <p:spPr>
                    <a:xfrm>
                      <a:off x="245340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55"/>
                    <p:cNvSpPr/>
                    <p:nvPr/>
                  </p:nvSpPr>
                  <p:spPr>
                    <a:xfrm>
                      <a:off x="371988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166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61"/>
                    <p:cNvSpPr/>
                    <p:nvPr/>
                  </p:nvSpPr>
                  <p:spPr>
                    <a:xfrm>
                      <a:off x="3519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162"/>
                    <p:cNvSpPr/>
                    <p:nvPr/>
                  </p:nvSpPr>
                  <p:spPr>
                    <a:xfrm>
                      <a:off x="2320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163"/>
                    <p:cNvSpPr/>
                    <p:nvPr/>
                  </p:nvSpPr>
                  <p:spPr>
                    <a:xfrm>
                      <a:off x="245340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164"/>
                    <p:cNvSpPr/>
                    <p:nvPr/>
                  </p:nvSpPr>
                  <p:spPr>
                    <a:xfrm>
                      <a:off x="371988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175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70"/>
                    <p:cNvSpPr/>
                    <p:nvPr/>
                  </p:nvSpPr>
                  <p:spPr>
                    <a:xfrm>
                      <a:off x="3519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71"/>
                    <p:cNvSpPr/>
                    <p:nvPr/>
                  </p:nvSpPr>
                  <p:spPr>
                    <a:xfrm>
                      <a:off x="2320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172"/>
                    <p:cNvSpPr/>
                    <p:nvPr/>
                  </p:nvSpPr>
                  <p:spPr>
                    <a:xfrm>
                      <a:off x="245340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173"/>
                    <p:cNvSpPr/>
                    <p:nvPr/>
                  </p:nvSpPr>
                  <p:spPr>
                    <a:xfrm>
                      <a:off x="371988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184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185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194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89"/>
                    <p:cNvSpPr/>
                    <p:nvPr/>
                  </p:nvSpPr>
                  <p:spPr>
                    <a:xfrm>
                      <a:off x="50025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90"/>
                    <p:cNvSpPr/>
                    <p:nvPr/>
                  </p:nvSpPr>
                  <p:spPr>
                    <a:xfrm>
                      <a:off x="38034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91"/>
                    <p:cNvSpPr/>
                    <p:nvPr/>
                  </p:nvSpPr>
                  <p:spPr>
                    <a:xfrm>
                      <a:off x="39362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2"/>
                    <p:cNvSpPr/>
                    <p:nvPr/>
                  </p:nvSpPr>
                  <p:spPr>
                    <a:xfrm>
                      <a:off x="520272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203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98"/>
                    <p:cNvSpPr/>
                    <p:nvPr/>
                  </p:nvSpPr>
                  <p:spPr>
                    <a:xfrm>
                      <a:off x="50025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99"/>
                    <p:cNvSpPr/>
                    <p:nvPr/>
                  </p:nvSpPr>
                  <p:spPr>
                    <a:xfrm>
                      <a:off x="38034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00"/>
                    <p:cNvSpPr/>
                    <p:nvPr/>
                  </p:nvSpPr>
                  <p:spPr>
                    <a:xfrm>
                      <a:off x="39362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01"/>
                    <p:cNvSpPr/>
                    <p:nvPr/>
                  </p:nvSpPr>
                  <p:spPr>
                    <a:xfrm>
                      <a:off x="520272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212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07"/>
                    <p:cNvSpPr/>
                    <p:nvPr/>
                  </p:nvSpPr>
                  <p:spPr>
                    <a:xfrm>
                      <a:off x="50025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08"/>
                    <p:cNvSpPr/>
                    <p:nvPr/>
                  </p:nvSpPr>
                  <p:spPr>
                    <a:xfrm>
                      <a:off x="38034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209"/>
                    <p:cNvSpPr/>
                    <p:nvPr/>
                  </p:nvSpPr>
                  <p:spPr>
                    <a:xfrm>
                      <a:off x="39362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210"/>
                    <p:cNvSpPr/>
                    <p:nvPr/>
                  </p:nvSpPr>
                  <p:spPr>
                    <a:xfrm>
                      <a:off x="520272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221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222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231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226"/>
                    <p:cNvSpPr/>
                    <p:nvPr/>
                  </p:nvSpPr>
                  <p:spPr>
                    <a:xfrm>
                      <a:off x="6485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227"/>
                    <p:cNvSpPr/>
                    <p:nvPr/>
                  </p:nvSpPr>
                  <p:spPr>
                    <a:xfrm>
                      <a:off x="5286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228"/>
                    <p:cNvSpPr/>
                    <p:nvPr/>
                  </p:nvSpPr>
                  <p:spPr>
                    <a:xfrm>
                      <a:off x="5419080" y="25585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229"/>
                    <p:cNvSpPr/>
                    <p:nvPr/>
                  </p:nvSpPr>
                  <p:spPr>
                    <a:xfrm>
                      <a:off x="6685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240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235"/>
                    <p:cNvSpPr/>
                    <p:nvPr/>
                  </p:nvSpPr>
                  <p:spPr>
                    <a:xfrm>
                      <a:off x="6485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236"/>
                    <p:cNvSpPr/>
                    <p:nvPr/>
                  </p:nvSpPr>
                  <p:spPr>
                    <a:xfrm>
                      <a:off x="5286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237"/>
                    <p:cNvSpPr/>
                    <p:nvPr/>
                  </p:nvSpPr>
                  <p:spPr>
                    <a:xfrm>
                      <a:off x="5419080" y="417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238"/>
                    <p:cNvSpPr/>
                    <p:nvPr/>
                  </p:nvSpPr>
                  <p:spPr>
                    <a:xfrm>
                      <a:off x="6685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249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244"/>
                    <p:cNvSpPr/>
                    <p:nvPr/>
                  </p:nvSpPr>
                  <p:spPr>
                    <a:xfrm>
                      <a:off x="6485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245"/>
                    <p:cNvSpPr/>
                    <p:nvPr/>
                  </p:nvSpPr>
                  <p:spPr>
                    <a:xfrm>
                      <a:off x="5286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246"/>
                    <p:cNvSpPr/>
                    <p:nvPr/>
                  </p:nvSpPr>
                  <p:spPr>
                    <a:xfrm>
                      <a:off x="5419080" y="58017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247"/>
                    <p:cNvSpPr/>
                    <p:nvPr/>
                  </p:nvSpPr>
                  <p:spPr>
                    <a:xfrm>
                      <a:off x="6685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258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259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268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263"/>
                    <p:cNvSpPr/>
                    <p:nvPr/>
                  </p:nvSpPr>
                  <p:spPr>
                    <a:xfrm>
                      <a:off x="79678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264"/>
                    <p:cNvSpPr/>
                    <p:nvPr/>
                  </p:nvSpPr>
                  <p:spPr>
                    <a:xfrm>
                      <a:off x="676872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265"/>
                    <p:cNvSpPr/>
                    <p:nvPr/>
                  </p:nvSpPr>
                  <p:spPr>
                    <a:xfrm>
                      <a:off x="690156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266"/>
                    <p:cNvSpPr/>
                    <p:nvPr/>
                  </p:nvSpPr>
                  <p:spPr>
                    <a:xfrm>
                      <a:off x="8168040" y="25585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277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272"/>
                    <p:cNvSpPr/>
                    <p:nvPr/>
                  </p:nvSpPr>
                  <p:spPr>
                    <a:xfrm>
                      <a:off x="79678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73"/>
                    <p:cNvSpPr/>
                    <p:nvPr/>
                  </p:nvSpPr>
                  <p:spPr>
                    <a:xfrm>
                      <a:off x="676872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74"/>
                    <p:cNvSpPr/>
                    <p:nvPr/>
                  </p:nvSpPr>
                  <p:spPr>
                    <a:xfrm>
                      <a:off x="690156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5"/>
                    <p:cNvSpPr/>
                    <p:nvPr/>
                  </p:nvSpPr>
                  <p:spPr>
                    <a:xfrm>
                      <a:off x="8168040" y="417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286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281"/>
                    <p:cNvSpPr/>
                    <p:nvPr/>
                  </p:nvSpPr>
                  <p:spPr>
                    <a:xfrm>
                      <a:off x="79678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282"/>
                    <p:cNvSpPr/>
                    <p:nvPr/>
                  </p:nvSpPr>
                  <p:spPr>
                    <a:xfrm>
                      <a:off x="676872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283"/>
                    <p:cNvSpPr/>
                    <p:nvPr/>
                  </p:nvSpPr>
                  <p:spPr>
                    <a:xfrm>
                      <a:off x="690156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284"/>
                    <p:cNvSpPr/>
                    <p:nvPr/>
                  </p:nvSpPr>
                  <p:spPr>
                    <a:xfrm>
                      <a:off x="8168040" y="58017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295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307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313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314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317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320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323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326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329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332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335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163B-5A13-4A4F-AF26-E58F6220219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perant Conditioning: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chedules and Theori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f Reinforcemen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riable Ratio Schedu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variable ratio schedul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, reinforcement is contingent up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varying, unpredictable number of respons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haracteristic pattern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High and steady rate of respons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Little or no post-reinforcer pausin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Hunting, fishing, golfing, shooting hoops, and telemarketing are examples of behaviors on this type of schedu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riable Ratio:  V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riable Ratio:  VR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riable Ratio is abbreviated “VR” and a number showing 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an average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f how many responses between 1 and 100 must be made to get the reinforcer is added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. VR 50 (an </a:t>
            </a: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of 50 responses needed to get a reinforcer – could the the next try, or it could take 72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Gambling is the classic example!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ixed Interval Schedu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xed interval schedul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, reinforcement is contingent upon the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rst response after a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xed, predictable period of ti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lancing at your watch during class provides an exampl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e mailman delivering your mail at a specific time every day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ixed Interval: F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xed Interval is abbreviated “FI” and a number showing how much time must pass before the reinforcer is available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I 30-min (reinforcement is available for the first response after 30 minutes have passed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.  Looking down the tracks for the train if it comes every 30 minute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riable Interval Schedu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variable interval schedul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, reinforcement is contingent upon the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rst response after a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varying, unpredictable period of ti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haracteristic pattern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 moderate, steady rate of response with little or no post-reinforcement pause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ooking down the street for the bus if you are waiting and have no idea how often it comes provides an example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ariable Interval: VI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ariable Interval is abbreviated “VI” and a number showing the 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average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ime interval that must pass before the reinforcer is available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VI 30-min (reinforcement is available for the first response after an average of 30 minutes has passed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Ex.  Hilary’s boyfriend, Michael, gets out of school and turns on his phone some time between 3:00 and 3:30 – the “reward” of his answering his phone puts her calling behavior on a VI schedule, so she calls every few minutes until he answer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Now that we have discussed  </a:t>
            </a:r>
            <a:br>
              <a:rPr sz="3600"/>
            </a:br>
            <a:r>
              <a:rPr b="0" lang="en-US" sz="3600" spc="-1" strike="noStrike">
                <a:solidFill>
                  <a:srgbClr val="404176"/>
                </a:solidFill>
                <a:latin typeface="Arial"/>
              </a:rPr>
              <a:t>          punishment and reinforcement. . . </a:t>
            </a:r>
            <a:endParaRPr b="0" lang="en-US" sz="36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t is time to discuss just HOW reinforcements can and should be delivere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 other words, there are other things to consider than just WHAT the reinforcer should be!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hink about this!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f you were going to reinforce your puppy for going to the bathroom outside, how would you do it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ould you give him a Milk Bone every time?  Some of the time?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ould you keep doing it the same way or would you change your method as you go along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a schedule of reinforcement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 schedule of reinforcement is the response requirement that must be met in order to obtain reinforcement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 other words, it is what you have to do to get the goodies!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ontinuous vs. Partial Reinforcemen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tinuou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continuous reinforcement schedule 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is one in which each specified response is reinforc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arti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 partial </a:t>
            </a:r>
            <a:r>
              <a:rPr b="0" i="1" lang="en-US" sz="2400" spc="-1" strike="noStrike">
                <a:solidFill>
                  <a:srgbClr val="8383ad"/>
                </a:solidFill>
                <a:latin typeface="Arial"/>
              </a:rPr>
              <a:t>reinforcement schedule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 is one in which only some responses are reinforc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artial Reinforcement Schedu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hen you want to reinforce based on a certain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number of responses occurring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(for example, doing a certain number of math problems correctly), you can use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ratio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schedu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hen you want to reinforce </a:t>
            </a:r>
            <a:r>
              <a:rPr b="1" i="1" lang="en-US" sz="2800" spc="-1" strike="noStrike">
                <a:solidFill>
                  <a:srgbClr val="8383ad"/>
                </a:solidFill>
                <a:latin typeface="Arial"/>
              </a:rPr>
              <a:t>the first response after a certain amount of time has passed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(for example when a teacher gives a midterm test), you can use an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interval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 schedu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our Types of Partial Schedul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Ratio Schedu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Fixed Ratio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Variable Ratio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Interval Schedul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Fixed Interv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Arial"/>
              </a:rPr>
              <a:t>Variable Interv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ixed Ratio Schedul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xed ratio schedule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, reinforcement is contingent upon a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fixed, predictable number of respons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haracteristic pattern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High rate of response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hort pause following each reinforcer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Reading a chapter then taking a break is an exampl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A good strategy for “getting started” is to start with an easy task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Fixed Ratio:  FR 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xed Ratio is abbreviated “FR” and a number showing how many responses must be made to get the reinforcer is added: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. FR 5 (5 responses needed to get a reinforcer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2:28:35Z</dcterms:created>
  <dc:creator>dmccarty</dc:creator>
  <dc:description/>
  <dc:language>en-US</dc:language>
  <cp:lastModifiedBy>hberndt</cp:lastModifiedBy>
  <dcterms:modified xsi:type="dcterms:W3CDTF">2009-03-10T14:27:48Z</dcterms:modified>
  <cp:revision>7</cp:revision>
  <dc:subject/>
  <dc:title>Operant Conditioning:</dc:title>
</cp:coreProperties>
</file>